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DBE0-A38D-47C0-ACC1-1D008064BA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BD9A-9C08-4D11-8EE8-B39AB95823C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6C00-59F1-4CCE-9B2C-13DFCE4CCAA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B7F4-4625-405D-9B8C-0F468DDC5F0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000E-CB97-4760-BE16-2C3D498E3B2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7AB4-4C13-4BFB-8610-71C81FD2DE4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568D-2089-4418-8FF9-2AD9E140C60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927B-6D5D-48C6-97D9-1745D7EDC23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3D25-28E2-455A-8C6D-A1B2DBE979D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A2A8-DCF8-4707-BF67-5327A01F17A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2128-93B2-4FC4-9F06-67979BD26D3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31AF-6ECE-45CB-80CC-98B274D6B89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F6FA-CCDD-4A62-B166-C63287AE6AA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8B40-CF8F-4397-854B-0D347D2D327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BCFC-4EA1-4229-991A-50BB75DEC53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D214-5C80-40C1-8FDA-42BC1266FD4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4E71-4BF8-40E0-B715-81D975D70A6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6C3E-C419-4F9C-A569-FE655CC4AFB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6FEE-E3C8-4788-99F5-D4EA12D3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2BF7-E6A4-4C4E-A099-B63A0486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4DA4-F98A-493D-ABF1-9BB954963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73AE-6341-4AB8-BB9F-64156150C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B0AA-405C-4DF1-8E02-6F47B285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77CE-B817-464A-8A8F-F187AFEF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F6EA-7BCF-4D71-B376-69603EC2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3FC3-00CE-4321-BB47-F8A4FEE4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EF57-192D-4420-B0C2-42A79B8D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4491-3472-4A23-8927-35B69DD0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1C7D-0EEE-4926-84ED-36E81EA3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8CA0-8E80-4F2D-A37D-3F82E5C4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E797-DF5D-474E-B890-803BC41E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ED01-D264-4004-8584-8F336FA5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B6B4-2002-4690-B653-849A06C9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1C12-C9C8-4891-8FFE-932ED2A4E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3BC6-F443-4544-91EE-9878CAA7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C42F4-D902-4655-AE6F-0194FB46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A9E4B-CAB7-47DC-9DA3-25D0158A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13AA0-BEE7-4D38-B9CF-663A6BFD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A6864-4196-4554-AD98-6862CCF3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36808-A91B-4638-9B99-E1E0B27F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D593-B213-4A22-B6B0-CCEFD7CD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BCBE1-A0A6-449B-A541-E081AB73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7A1D7-361A-4302-A166-168A8BB4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AAAC4-AFA4-4CB1-90A5-637F3146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169B0-A509-4C85-915E-903CFABC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544B8-1943-4396-97BE-5A0A36DE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04F7B-5A0D-424F-A7F3-855391CE6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7CA7A-43AC-4253-8C12-E028994B9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A3AFB-CA5E-4D26-82C2-941A9E5C8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B6BF2-11BB-4C65-A99E-62223514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C6AF1-F709-4660-BFF6-B598C0EB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7081-D206-4F7D-BE84-F165F15D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45172-BC12-4F2B-8A7E-FBD6FF84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8542F-DD00-42D9-94A4-898AA407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E0C3C-5998-48E9-B1B3-A2EB06ED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AAF89-46CB-47E6-AB2A-E2BCF8C6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8EA6E-5598-42BC-9F29-3E2E7125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EDA8B-664E-4E25-B287-D04ABFB1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56BE4-90E6-42A1-BF3C-F53E5053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5AD29-1E2C-4AA3-A34A-ED5D647B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AFCAB-3C77-4843-A334-42AB4B0D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C324E-5A88-4566-B4D6-02A667A1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142E-7A01-4F6B-AD3F-8AEBBA4C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5FA24-00C2-43D5-B27D-3731D88D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9630C-B012-4D0B-88EF-3A3B3804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654FD-3DD2-43AA-A20C-9C387CBB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E42DD-A684-45FC-86A6-354DB458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3DFF9-8416-42C2-A539-923C9E4B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3242B-28C5-42C8-8C14-BFD94F57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7AAE2-C018-4A9D-9C9C-BCFB584E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9B13F-2252-4905-BAFD-9181EB1B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059B8-802F-4ED1-85A2-BB551524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21922-2542-4B61-BA2B-F9E5746D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85D0-C6AF-4262-BBF5-DDAAB9E8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8FA92-8740-47E0-82E6-88B100484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B0A72-EE7A-4D8D-9D72-9F317C84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1E780-69E0-4C87-9DDE-F1950530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2657A-9A7D-4F42-9752-F2B13C7C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74563-74C0-4CA6-86EA-D445E0AD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FAA47-FC5E-4BCC-A86A-590C9B3B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A097F-639B-43E2-AED9-51E94F5E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61F59-C144-4982-9152-CCB4FE3C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41A5A-C610-49AB-AD9A-F73AE513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BCBB0-2B88-48AD-8E09-3456C23E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E206-C697-40DB-824F-49E16EE5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CD19E-5A9C-4FEA-98F5-97A1AB6A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20819-3099-4BC0-BA0A-D0BEC2BC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B1146-E09E-4D86-9DAE-E281D0DE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3CA21-59B8-4A3C-BF1C-B9833A1B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837AD-AD80-4DBB-A326-1AAB7EF7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62101-2E93-4C74-A1E8-80B2EDC9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2667F-7BE9-4F0A-8498-2BE81351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21FB3-1A5F-46A0-BFDB-7DCC3891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9B935-BF64-43CA-A334-788C71C9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B6C0C-A136-4947-A021-4AB7E8BE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8FAF-C9D0-4F86-8F1F-D8DD34C4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1F7C9-2C0F-4EF1-ADD1-5ADD74D9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2D787-206B-41F1-9128-FC217B9A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369EA-F9E8-4DF5-98C5-34329040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BB23B-240D-4CFC-BC92-6A697DF16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9C382-8D56-4392-BABB-7B3C4B36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D7ADD-65DD-4704-9EEC-832880F3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AC409-58D1-4886-8986-7F5C9789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5B593-4E6E-49E6-A1AB-BCE808A4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43218-9B57-44B6-AF84-9206E4EB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987E4-6C2A-4C7D-9772-F22A1522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DC66-2BE1-493E-90A5-7C6FED72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9E3A1-D989-416D-97B0-128789ED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9CEDA-4AAC-426A-BB0E-CC4128CE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381B7-4E73-45EE-81DB-DE584C4E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E42A3-D41D-42FB-B172-7C9E529F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BB5B5-369F-44CF-9439-843AFB64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BF3FE-AC0B-4EAB-8970-077BA38FB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348C0-7439-47C6-91D4-3D4C057CC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63CC-5485-4E5F-9EBC-51331CBA66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B3EC-71C6-469A-A316-684DFD290E8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D15B-03A5-4CD1-AE9D-9B365D56E4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5191-620E-4E8D-BC4B-882C71F327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C2A1-DC77-4FB7-B8E3-B3EB50D9A5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576F-B8AC-4E95-8E92-30B9C1205F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F8B1-7FB0-4F7A-9BC4-E168CE272742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56BC-6E5D-42B6-AA3A-21E2F496C899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highered.mcgraw-hill.com/sites/0072495855/student_view0/chapter2/animation__mitosis_and_cytokinesis.html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highered.mcgraw-hill.com/olcweb/cgi/pluginpop.cgi?it=swf::535::535::/sites/dl/free/0072437316/120074/bio19.swf::Stages%20of%20Meiosis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114040" cy="1481400"/>
          </a:xfrm>
          <a:prstGeom prst="rect">
            <a:avLst/>
          </a:prstGeom>
          <a:ln w="0">
            <a:noFill/>
          </a:ln>
        </p:spPr>
      </p:pic>
      <p:pic>
        <p:nvPicPr>
          <p:cNvPr id="353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 type of nuclear divis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aughter cells are genetically identica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4 phases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Prophas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etaphas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naphas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elophas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675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When you were working with the chromosomes of your Wolperdinger during the Meiosis portion of the activity, what was happening?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75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75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75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What did Meiosis do to the cells?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75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75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75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When a cycle of Meiosis is completed, what does you Wolperdinger end up with? 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75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other type of nuclear divis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duction division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2 groups of divisio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aughter cells contain ½ the genetic material from parent cel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ormation of gamet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Century Gothic"/>
              </a:rPr>
              <a:t>Meiosis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nds with </a:t>
            </a:r>
            <a:r>
              <a:rPr b="1" lang="en-US" sz="3000" spc="-1" strike="noStrike">
                <a:solidFill>
                  <a:srgbClr val="00b050"/>
                </a:solidFill>
                <a:latin typeface="Century Gothic"/>
              </a:rPr>
              <a:t>4 haploid (n)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aughter cells, each with </a:t>
            </a:r>
            <a:r>
              <a:rPr b="1" lang="en-US" sz="3000" spc="-1" strike="noStrike">
                <a:solidFill>
                  <a:srgbClr val="00b050"/>
                </a:solidFill>
                <a:latin typeface="Century Gothic"/>
              </a:rPr>
              <a:t>½</a:t>
            </a:r>
            <a:r>
              <a:rPr b="0" lang="en-US" sz="3000" spc="-1" strike="noStrike">
                <a:solidFill>
                  <a:srgbClr val="3a3a3a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number of chromosom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entury Gothic"/>
              </a:rPr>
              <a:t>Mitosis</a:t>
            </a:r>
            <a:r>
              <a:rPr b="0" lang="en-US" sz="30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nds with </a:t>
            </a:r>
            <a:r>
              <a:rPr b="1" lang="en-US" sz="3000" spc="-1" strike="noStrike">
                <a:solidFill>
                  <a:srgbClr val="ff0000"/>
                </a:solidFill>
                <a:latin typeface="Century Gothic"/>
              </a:rPr>
              <a:t>2 diploid (2n)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aughter cells, each with a complete set of chromosomes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838080" y="380880"/>
            <a:ext cx="7721640" cy="5791320"/>
          </a:xfrm>
          <a:prstGeom prst="rect">
            <a:avLst/>
          </a:prstGeom>
          <a:ln w="0">
            <a:noFill/>
          </a:ln>
        </p:spPr>
      </p:pic>
      <p:sp>
        <p:nvSpPr>
          <p:cNvPr id="385" name="TextBox 5"/>
          <p:cNvSpPr/>
          <p:nvPr/>
        </p:nvSpPr>
        <p:spPr>
          <a:xfrm>
            <a:off x="1523880" y="60958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DIPLOI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TextBox 6"/>
          <p:cNvSpPr/>
          <p:nvPr/>
        </p:nvSpPr>
        <p:spPr>
          <a:xfrm>
            <a:off x="5410080" y="6172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HAPLOI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328240" cy="140796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eiosis and Mitosis have some similaritie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oth undergo </a:t>
            </a:r>
            <a:r>
              <a:rPr b="0" lang="en-US" sz="3000" spc="-1" strike="noStrike">
                <a:solidFill>
                  <a:srgbClr val="ff0000"/>
                </a:solidFill>
                <a:latin typeface="Century Gothic"/>
              </a:rPr>
              <a:t>Prophase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, </a:t>
            </a:r>
            <a:r>
              <a:rPr b="0" lang="en-US" sz="3000" spc="-1" strike="noStrike">
                <a:solidFill>
                  <a:srgbClr val="7030a0"/>
                </a:solidFill>
                <a:latin typeface="Century Gothic"/>
              </a:rPr>
              <a:t>Metaphase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, </a:t>
            </a:r>
            <a:r>
              <a:rPr b="0" lang="en-US" sz="3000" spc="-1" strike="noStrike">
                <a:solidFill>
                  <a:srgbClr val="ffc000"/>
                </a:solidFill>
                <a:latin typeface="Century Gothic"/>
              </a:rPr>
              <a:t>Anaphase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and </a:t>
            </a:r>
            <a:r>
              <a:rPr b="0" lang="en-US" sz="3000" spc="-1" strike="noStrike">
                <a:solidFill>
                  <a:srgbClr val="00b050"/>
                </a:solidFill>
                <a:latin typeface="Century Gothic"/>
              </a:rPr>
              <a:t>Teloph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UT Meiosis has </a:t>
            </a:r>
            <a:r>
              <a:rPr b="1" i="1" lang="en-US" sz="3000" spc="-1" strike="noStrike">
                <a:solidFill>
                  <a:srgbClr val="a22e81"/>
                </a:solidFill>
                <a:latin typeface="Century Gothic"/>
              </a:rPr>
              <a:t>two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groups of divisions: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Meiosis I and Meiosis I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5f5f5f"/>
                </a:solidFill>
                <a:uFillTx/>
                <a:latin typeface="Century Gothic"/>
                <a:hlinkClick r:id="rId2"/>
              </a:rPr>
              <a:t>Mitosis and Cytokinesis Video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5f5f5f"/>
                </a:solidFill>
                <a:uFillTx/>
                <a:latin typeface="Century Gothic"/>
                <a:hlinkClick r:id="rId2"/>
              </a:rPr>
              <a:t>Meiosis Video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"/>
          <p:cNvPicPr/>
          <p:nvPr/>
        </p:nvPicPr>
        <p:blipFill>
          <a:blip r:embed="rId2"/>
          <a:stretch/>
        </p:blipFill>
        <p:spPr>
          <a:xfrm>
            <a:off x="2590920" y="1600200"/>
            <a:ext cx="4049640" cy="4572000"/>
          </a:xfrm>
          <a:prstGeom prst="rect">
            <a:avLst/>
          </a:prstGeom>
          <a:ln w="0">
            <a:noFill/>
          </a:ln>
        </p:spPr>
      </p:pic>
      <p:sp>
        <p:nvSpPr>
          <p:cNvPr id="356" name="TextBox 5"/>
          <p:cNvSpPr/>
          <p:nvPr/>
        </p:nvSpPr>
        <p:spPr>
          <a:xfrm>
            <a:off x="3400560" y="632448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The “</a:t>
            </a:r>
            <a:r>
              <a:rPr b="1" i="1" lang="en-US" sz="1800" spc="-1" strike="noStrike">
                <a:solidFill>
                  <a:srgbClr val="ffffff"/>
                </a:solidFill>
                <a:latin typeface="Century Gothic"/>
              </a:rPr>
              <a:t>Wolperdinger”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6840" y="2057040"/>
            <a:ext cx="5791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hromatin = genetic material (DNA and protein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hromosomes = condensed chromati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2"/>
          <a:stretch/>
        </p:blipFill>
        <p:spPr>
          <a:xfrm>
            <a:off x="6513480" y="2133720"/>
            <a:ext cx="2630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380520" y="1447560"/>
            <a:ext cx="8153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ster Chromatids = identical halves of chromosom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entromere = where sister chromatids are joined on chromosom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2" name="Picture 4" descr=""/>
          <p:cNvPicPr/>
          <p:nvPr/>
        </p:nvPicPr>
        <p:blipFill>
          <a:blip r:embed="rId2"/>
          <a:stretch/>
        </p:blipFill>
        <p:spPr>
          <a:xfrm>
            <a:off x="4700520" y="3809880"/>
            <a:ext cx="44434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5" descr=""/>
          <p:cNvPicPr/>
          <p:nvPr/>
        </p:nvPicPr>
        <p:blipFill>
          <a:blip r:embed="rId2"/>
          <a:stretch/>
        </p:blipFill>
        <p:spPr>
          <a:xfrm>
            <a:off x="914400" y="1676520"/>
            <a:ext cx="758196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7832880" cy="58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aploid cell = contains only ½ of the chromosomes of a somatic cell, denoted by “n”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n = number of chromosom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Gametes are haploi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omatic cell = body cel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ody cells are </a:t>
            </a:r>
            <a:r>
              <a:rPr b="1" lang="en-US" sz="3000" spc="-1" strike="noStrike">
                <a:solidFill>
                  <a:srgbClr val="ff0000"/>
                </a:solidFill>
                <a:latin typeface="Century Gothic"/>
              </a:rPr>
              <a:t>diploi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iploid cell = cell that contains 2 sets of chromosomes, one from mother, one from fath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noted by “2n”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en you were working with the chromosomes of your Wolperdinger during the Mitosis portion of the activity, what was happening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did Mitosis do to the cells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en a cycle of Mitosis is completed, what does you Wolperdinger end up with?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05:50:20Z</dcterms:created>
  <dc:creator>Angie</dc:creator>
  <dc:description/>
  <dc:language>en-US</dc:language>
  <cp:lastModifiedBy>Angie</cp:lastModifiedBy>
  <dcterms:modified xsi:type="dcterms:W3CDTF">2011-02-24T18:05:34Z</dcterms:modified>
  <cp:revision>45</cp:revision>
  <dc:subject/>
  <dc:title>Mitosis and Meiosis Madness</dc:title>
</cp:coreProperties>
</file>